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801-14FF-49FD-A9E3-FD0EB2BE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AD4-F3CD-44FB-9832-DD04C1EC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6AF-7623-4B41-9F48-FA893950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A05-7E14-4686-A4A1-90E362E0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BF2-4F52-406B-81DD-4C9FFE5A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47C-B262-4211-93D1-7C0A1107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EC6-7900-42EA-B900-F86A8D20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22C-16D8-4AE8-90FB-5733B754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47A-F49A-4456-86CB-AD234738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327-8BE9-4580-8782-DBDBE5B3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86A-A22C-4D5F-9A0E-F0E678C8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8B0-8954-475E-9890-AE44074F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EB25-F6C7-47F5-8EDE-4C72BCEB68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1107-E732-4683-951F-406E8A783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"/>
          <p:cNvSpPr/>
          <p:nvPr/>
        </p:nvSpPr>
        <p:spPr>
          <a:xfrm>
            <a:off x="990720" y="1143000"/>
            <a:ext cx="7315200" cy="426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itle 1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7858080" cy="2530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304920"/>
            <a:ext cx="822960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How do you writ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 dependent clau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ery easily . .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tart with a perfectly good independent clause (a complete thought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d an appropriate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ubordinating conjunctio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t the beginn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Which words act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as subordinating conjunc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re are some common subordinating conjun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also known as “subordinators”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hen       During      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here      Until            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hile        Aft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hy           Befor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lthoug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WARNING! WARNING! WARN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N YOU WRITE A DEPENDENT CLAUSE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YOU MUST “ATTACH” I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O A COMPLETE SENTENC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533520" y="380880"/>
            <a:ext cx="815328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CAUSE IT </a:t>
            </a: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IS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DEPENDE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CAUSE IT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DOES NOT EXPRESS A COMPLETE THOUGH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CAUSE IF YOU LEAVE IT STANDING THERE ALL BY ITSELF, IT WILL  BECOM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 SENTENCE FRAGME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 QUICK REVIEW . .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CLAUSE HAS A SUBJECT/VER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E CLAUSES CAN STAND ALONE AS COMPLETE SENTENCES (INDEPENDENT CLAUS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 SOME CLAUSES CANNOT STAND ALONE AS COMPLETE SENTENCES (DEPENDENT CLAUS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4. DEPENDENT CLAUSES BEGIN WITH SUBORDINATING CONJUNCTIONS (AKA “SUBORDINATORS”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. DEPENDENT CLAUSES CAN BE WRITTEN TO FIX RUN-ON SENTE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6. DEPENDENT CLAUSES CAN BE WRITTEN TO IMPROVE SENTENCE STRUCTURE BY ELIMINATING SHORT, CHOPPY SENTE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Now that you have a dependent clause, put a comma after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 Now write a complete sentence to follow it so that it is not standing there all by it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Now be amazed . . . You have just written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complex sentenc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Now do it again, 4 more times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using a different subordinat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onjunction each ti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OUR TYPES OF SENTENCE STRUC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SIMPLE SENTENC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= ONE INDEPENDENT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COMPOUND SENTENC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= TWO OR MO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DEPENDENT CLAU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COMPLEX SENTENC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= ONE INDEPENDEN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AUSE + ONE (OR MORE) DEPENDEN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AU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COMPOUND-COMPLEX SENTENC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= TWO O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RE INDEPENDENT CLAUSES + AT LEAS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NE DEPENDENT CLAU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305560" cy="53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o, like, what is </a:t>
            </a:r>
            <a:r>
              <a:rPr b="1" lang="en-US" sz="4400" spc="-1" strike="noStrike" u="sng">
                <a:solidFill>
                  <a:srgbClr val="002060"/>
                </a:solidFill>
                <a:uFillTx/>
                <a:latin typeface="Calibri"/>
              </a:rPr>
              <a:t>a claus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, Du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. .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F YOU CAN WRITE AN INDEPENDENT CLAUSE (WHICH YOU CAN) AND IF YOU CAN WRITE A DEPENDENT CLAUSE (WHICH YOU CAN), THEN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YOU CAN STRUCTURE YOUR SENTENCES IN FOUR DIFFERENT KINDS OF W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EING ABLE TO CONSTRUCT SIMPLE, COMPOUND, COMPLEX, AND COMPOUND-COMPLEX SENTENCES WILL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ADD VARIETY AND STYLE TO YOUR WRITING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4952880" y="4419720"/>
            <a:ext cx="3733920" cy="1904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8"/>
          <p:cNvSpPr/>
          <p:nvPr/>
        </p:nvSpPr>
        <p:spPr>
          <a:xfrm>
            <a:off x="380880" y="4038480"/>
            <a:ext cx="3962520" cy="2590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A clause is any group of words with a subject and a verb working together to express a though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EPENDENT CLAU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s a subject/verb; expresse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mplet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ought; stands alone 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 simple sentenc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PENDENT CLA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s a subject/verb, but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OES NO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ress a complete thought; can’t stand alone as a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5"/>
          <p:cNvSpPr/>
          <p:nvPr/>
        </p:nvSpPr>
        <p:spPr>
          <a:xfrm>
            <a:off x="2057400" y="297180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own Arrow 6"/>
          <p:cNvSpPr/>
          <p:nvPr/>
        </p:nvSpPr>
        <p:spPr>
          <a:xfrm>
            <a:off x="6477120" y="3657600"/>
            <a:ext cx="4572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502920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clause that </a:t>
            </a:r>
            <a:r>
              <a:rPr b="0" lang="en-US" sz="3600" spc="-1" strike="noStrike">
                <a:solidFill>
                  <a:srgbClr val="66ffff"/>
                </a:solidFill>
                <a:latin typeface="Calibri"/>
              </a:rPr>
              <a:t>makes sense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y itself is an </a:t>
            </a:r>
            <a:r>
              <a:rPr b="0" lang="en-US" sz="3600" spc="-1" strike="noStrike">
                <a:solidFill>
                  <a:srgbClr val="99ff33"/>
                </a:solidFill>
                <a:latin typeface="Calibri"/>
              </a:rPr>
              <a:t>independent clau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clause that </a:t>
            </a:r>
            <a:r>
              <a:rPr b="0" lang="en-US" sz="3600" spc="-1" strike="noStrike">
                <a:solidFill>
                  <a:srgbClr val="66ffff"/>
                </a:solidFill>
                <a:latin typeface="Calibri"/>
              </a:rPr>
              <a:t>does not make sense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by itself is a </a:t>
            </a:r>
            <a:r>
              <a:rPr b="0" lang="en-US" sz="3600" spc="-1" strike="noStrike">
                <a:solidFill>
                  <a:srgbClr val="99ff33"/>
                </a:solidFill>
                <a:latin typeface="Calibri"/>
              </a:rPr>
              <a:t>dependent clau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complex sentence contains an independent and dependent clau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90360" y="1219320"/>
            <a:ext cx="6933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99ff33"/>
                </a:solidFill>
                <a:uFillTx/>
                <a:latin typeface="Calibri"/>
              </a:rPr>
              <a:t>Independent claus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Calibri"/>
              </a:rPr>
              <a:t>Native Americans lived on the island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500" spc="-1" strike="noStrike">
                <a:solidFill>
                  <a:srgbClr val="000000"/>
                </a:solidFill>
                <a:latin typeface="Calibri"/>
              </a:rPr>
              <a:t>until they were attacked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66ffff"/>
                </a:solidFill>
                <a:latin typeface="Calibri"/>
              </a:rPr>
              <a:t>Dependent claus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6"/>
          <p:cNvSpPr/>
          <p:nvPr/>
        </p:nvSpPr>
        <p:spPr>
          <a:xfrm>
            <a:off x="2362320" y="182880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3809880" y="34290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1066680" y="380880"/>
            <a:ext cx="693432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848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RE ARE SOME EXAMPL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DEPENDENT CLA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174400"/>
            <a:ext cx="41148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e saw the plane 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serious person sometimes has difficulty relax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ing my homework always pays dividend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new TV season features many new pro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PENDENT CLA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f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e saw the plane land 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ecau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 serious person sometimes has difficulty relaxing 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thoug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oing my homework always pays dividends 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h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new TV season features many new programs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for independent or dependent cla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if you live on an island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the tides affect your life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the water level rises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 when the tide comes in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 much of the beach disappears under water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 until the tide goes out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523880" y="228600"/>
            <a:ext cx="60199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So, what can you 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do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with a dependent clau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3700" spc="-1" strike="noStrike">
                <a:solidFill>
                  <a:srgbClr val="c00000"/>
                </a:solidFill>
                <a:latin typeface="Calibri"/>
              </a:rPr>
              <a:t>Correct run-on sentences!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Run-O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The plane was late the passengers were ang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x the run-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When the plane was late, the passengers were ang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Because the plane was late, the passengers were ang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Improve your sentence structur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n you know how to write dependent clauses, you can turn two short, choppy sentences into one smooth 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hoppy: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plane was late. The passengers were ang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tter: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ecause the plane was late, the passengers were ang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01:31:03Z</dcterms:created>
  <dc:creator>Panda</dc:creator>
  <dc:description/>
  <dc:language>en-US</dc:language>
  <cp:lastModifiedBy>Administrator</cp:lastModifiedBy>
  <dcterms:modified xsi:type="dcterms:W3CDTF">2011-02-22T20:44:55Z</dcterms:modified>
  <cp:revision>47</cp:revision>
  <dc:subject/>
  <dc:title>THE WONDERFUL WORLD  OF CLAUSES!</dc:title>
</cp:coreProperties>
</file>